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530B2-1788-4AF0-899A-416A92638AD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2481F-ECB4-477E-AF06-E2E6DCA4D47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27A96-F034-4A75-ACE5-B5BC068FB60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A82D-B37A-4339-BBF9-F3B213727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1A76-886E-4438-B615-FF9FE4F6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1FBF-3252-453E-B1B3-E33705CE7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3361-B553-40ED-911D-503DAF560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1C552-1614-4B6A-A119-66C4A684B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F5604-6B87-4F81-B1F1-7A6280F35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44D2A-EF37-40CC-9A83-4D967B212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82DEA-C61E-4FD2-B3F1-E00B10B58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4EC6B-72CB-491D-8FDF-6D56145C8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E6131-BBE1-4381-A5EE-BA5DA0F70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11E4E-3E9F-4584-B230-D6D154DF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A431-3B83-43A3-ABF3-395767468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FF62B-0243-4742-A060-D76DD5E3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3F1C1-7ECD-4284-821C-101ED524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A24CB-A202-47D5-857F-DC02F0EFC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20437-C46E-4ABE-B3FB-02515D011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6E9C0-8620-487A-AF1D-31DC629D8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413A-3FBF-4D72-B3DC-C1E8B224B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3D58-C535-4611-9016-E4E36074A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F8F0-2995-42D2-95E8-BD04B7F18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F974-B804-43FD-ACA6-3125787A5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B4AA-B22D-4559-92A7-45EC2099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0434-B650-49E6-9231-9466C9EC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4F14-1061-41A1-BD23-874E68D9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97693-6848-4A76-A50B-354F0AA5D98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矩形 9"/>
          <p:cNvSpPr/>
          <p:nvPr/>
        </p:nvSpPr>
        <p:spPr>
          <a:xfrm>
            <a:off x="2214720" y="2503440"/>
            <a:ext cx="55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EB360-B123-496B-BC2D-961170BAE8A2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单圆角矩形 6"/>
          <p:cNvSpPr/>
          <p:nvPr/>
        </p:nvSpPr>
        <p:spPr>
          <a:xfrm>
            <a:off x="357120" y="566640"/>
            <a:ext cx="4032360" cy="647640"/>
          </a:xfrm>
          <a:prstGeom prst="pie">
            <a:avLst/>
          </a:prstGeom>
          <a:solidFill>
            <a:srgbClr val="87cb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情境导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9"/>
          <p:cNvSpPr/>
          <p:nvPr/>
        </p:nvSpPr>
        <p:spPr>
          <a:xfrm>
            <a:off x="2214720" y="2503440"/>
            <a:ext cx="55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单圆角矩形 6"/>
          <p:cNvSpPr/>
          <p:nvPr/>
        </p:nvSpPr>
        <p:spPr>
          <a:xfrm>
            <a:off x="357120" y="566640"/>
            <a:ext cx="4032360" cy="647640"/>
          </a:xfrm>
          <a:prstGeom prst="pie">
            <a:avLst/>
          </a:prstGeom>
          <a:solidFill>
            <a:srgbClr val="87cb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情境导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slideLayout" Target="../slideLayouts/slideLayout193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wmf"/><Relationship Id="rId13" Type="http://schemas.openxmlformats.org/officeDocument/2006/relationships/slideLayout" Target="../slideLayouts/slideLayout16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0.wmf"/><Relationship Id="rId11" Type="http://schemas.openxmlformats.org/officeDocument/2006/relationships/slideLayout" Target="../slideLayouts/slideLayout18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TextBox 3"/>
          <p:cNvSpPr/>
          <p:nvPr/>
        </p:nvSpPr>
        <p:spPr>
          <a:xfrm>
            <a:off x="1187280" y="1862280"/>
            <a:ext cx="66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2.15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工程问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Box 3"/>
          <p:cNvSpPr/>
          <p:nvPr/>
        </p:nvSpPr>
        <p:spPr>
          <a:xfrm>
            <a:off x="650880" y="569880"/>
            <a:ext cx="45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浙教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下第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28"/>
          <p:cNvSpPr/>
          <p:nvPr/>
        </p:nvSpPr>
        <p:spPr>
          <a:xfrm>
            <a:off x="-7128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30"/>
          <p:cNvSpPr/>
          <p:nvPr/>
        </p:nvSpPr>
        <p:spPr>
          <a:xfrm>
            <a:off x="-7128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4"/>
          <p:cNvSpPr/>
          <p:nvPr/>
        </p:nvSpPr>
        <p:spPr>
          <a:xfrm>
            <a:off x="642960" y="919080"/>
            <a:ext cx="785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甲乙两人砌一面墙，甲单独砌需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时完成，乙单独砌需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时可以完成。甲乙两人合砌几小时可以完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2" name="组合 19"/>
          <p:cNvGrpSpPr/>
          <p:nvPr/>
        </p:nvGrpSpPr>
        <p:grpSpPr>
          <a:xfrm>
            <a:off x="1857240" y="4813200"/>
            <a:ext cx="6286680" cy="830520"/>
            <a:chOff x="1857240" y="4813200"/>
            <a:chExt cx="6286680" cy="830520"/>
          </a:xfrm>
        </p:grpSpPr>
        <p:sp>
          <p:nvSpPr>
            <p:cNvPr id="863" name="Rectangle 6"/>
            <p:cNvSpPr/>
            <p:nvPr/>
          </p:nvSpPr>
          <p:spPr>
            <a:xfrm>
              <a:off x="1857240" y="4978800"/>
              <a:ext cx="628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答：两人合砌  </a:t>
              </a:r>
              <a:r>
                <a:rPr b="0" i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   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小时可以完成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64" name="Object 17"/>
            <p:cNvGraphicFramePr/>
            <p:nvPr/>
          </p:nvGraphicFramePr>
          <p:xfrm>
            <a:off x="4162320" y="4813200"/>
            <a:ext cx="480960" cy="830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65" name="Object 1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162320" y="4813200"/>
                      <a:ext cx="480960" cy="830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866" name="Object 6"/>
          <p:cNvGraphicFramePr/>
          <p:nvPr/>
        </p:nvGraphicFramePr>
        <p:xfrm>
          <a:off x="4002120" y="2286000"/>
          <a:ext cx="1539720" cy="91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02120" y="2286000"/>
                    <a:ext cx="153972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8" name="Object 7"/>
          <p:cNvGraphicFramePr/>
          <p:nvPr/>
        </p:nvGraphicFramePr>
        <p:xfrm>
          <a:off x="3714840" y="3230640"/>
          <a:ext cx="985680" cy="830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69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14840" y="3230640"/>
                    <a:ext cx="98568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0" name="Object 16"/>
          <p:cNvGraphicFramePr/>
          <p:nvPr/>
        </p:nvGraphicFramePr>
        <p:xfrm>
          <a:off x="3738600" y="4040280"/>
          <a:ext cx="1619280" cy="830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71" name="Object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38600" y="4040280"/>
                    <a:ext cx="161928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Text Box 3"/>
          <p:cNvSpPr/>
          <p:nvPr/>
        </p:nvSpPr>
        <p:spPr>
          <a:xfrm>
            <a:off x="1476360" y="1216080"/>
            <a:ext cx="54007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4"/>
          <p:cNvSpPr/>
          <p:nvPr/>
        </p:nvSpPr>
        <p:spPr>
          <a:xfrm>
            <a:off x="571680" y="974880"/>
            <a:ext cx="8175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吨蔬菜要运往奥运村，甲车每小时运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吨，乙车每小时运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吨。两车一起运需要多少小时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5"/>
          <p:cNvSpPr/>
          <p:nvPr/>
        </p:nvSpPr>
        <p:spPr>
          <a:xfrm>
            <a:off x="2828880" y="185904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已知哪些条件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6"/>
          <p:cNvSpPr/>
          <p:nvPr/>
        </p:nvSpPr>
        <p:spPr>
          <a:xfrm>
            <a:off x="1571760" y="2335320"/>
            <a:ext cx="62863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每小时运输量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×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运输时间＝运输总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6"/>
          <p:cNvSpPr/>
          <p:nvPr/>
        </p:nvSpPr>
        <p:spPr>
          <a:xfrm>
            <a:off x="1428840" y="4192560"/>
            <a:ext cx="69292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甲车运输量＋乙车运输量＝运输总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6"/>
          <p:cNvSpPr/>
          <p:nvPr/>
        </p:nvSpPr>
        <p:spPr>
          <a:xfrm>
            <a:off x="2000160" y="2835360"/>
            <a:ext cx="692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解：设两车一起运需要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小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6"/>
          <p:cNvSpPr/>
          <p:nvPr/>
        </p:nvSpPr>
        <p:spPr>
          <a:xfrm>
            <a:off x="3500280" y="3312360"/>
            <a:ext cx="307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甲车运输量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6"/>
          <p:cNvSpPr/>
          <p:nvPr/>
        </p:nvSpPr>
        <p:spPr>
          <a:xfrm>
            <a:off x="3500280" y="3763800"/>
            <a:ext cx="307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乙车运输量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6"/>
          <p:cNvSpPr/>
          <p:nvPr/>
        </p:nvSpPr>
        <p:spPr>
          <a:xfrm>
            <a:off x="3652920" y="4645080"/>
            <a:ext cx="307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6"/>
          <p:cNvSpPr/>
          <p:nvPr/>
        </p:nvSpPr>
        <p:spPr>
          <a:xfrm>
            <a:off x="4357800" y="5049720"/>
            <a:ext cx="18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0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6"/>
          <p:cNvSpPr/>
          <p:nvPr/>
        </p:nvSpPr>
        <p:spPr>
          <a:xfrm>
            <a:off x="4714920" y="5430600"/>
            <a:ext cx="18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6"/>
          <p:cNvSpPr/>
          <p:nvPr/>
        </p:nvSpPr>
        <p:spPr>
          <a:xfrm>
            <a:off x="2500200" y="5835600"/>
            <a:ext cx="542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两车一起运需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小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Text Box 3"/>
          <p:cNvSpPr/>
          <p:nvPr/>
        </p:nvSpPr>
        <p:spPr>
          <a:xfrm>
            <a:off x="1476360" y="1216080"/>
            <a:ext cx="54007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4"/>
          <p:cNvSpPr/>
          <p:nvPr/>
        </p:nvSpPr>
        <p:spPr>
          <a:xfrm>
            <a:off x="571680" y="974880"/>
            <a:ext cx="8175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吨蔬菜要运往奥运村，单独运，甲车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时可以运完，乙车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时可以运完。两车一起运需要多少小时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6"/>
          <p:cNvSpPr/>
          <p:nvPr/>
        </p:nvSpPr>
        <p:spPr>
          <a:xfrm>
            <a:off x="2643120" y="1977840"/>
            <a:ext cx="60008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运输时间＝运输总量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÷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每小时运输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6"/>
          <p:cNvSpPr/>
          <p:nvPr/>
        </p:nvSpPr>
        <p:spPr>
          <a:xfrm>
            <a:off x="2000160" y="2460600"/>
            <a:ext cx="692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解：设两车一起运需要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小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6"/>
          <p:cNvSpPr/>
          <p:nvPr/>
        </p:nvSpPr>
        <p:spPr>
          <a:xfrm>
            <a:off x="2357280" y="5859360"/>
            <a:ext cx="542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两车一起运需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小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2" name="组合 25"/>
          <p:cNvGrpSpPr/>
          <p:nvPr/>
        </p:nvGrpSpPr>
        <p:grpSpPr>
          <a:xfrm>
            <a:off x="1143000" y="2867040"/>
            <a:ext cx="4357800" cy="830160"/>
            <a:chOff x="1143000" y="2867040"/>
            <a:chExt cx="4357800" cy="830160"/>
          </a:xfrm>
        </p:grpSpPr>
        <p:sp>
          <p:nvSpPr>
            <p:cNvPr id="763" name="Rectangle 6"/>
            <p:cNvSpPr/>
            <p:nvPr/>
          </p:nvSpPr>
          <p:spPr>
            <a:xfrm>
              <a:off x="1143000" y="3036600"/>
              <a:ext cx="4357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甲车运输时间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64" name="Object 2"/>
            <p:cNvGraphicFramePr/>
            <p:nvPr/>
          </p:nvGraphicFramePr>
          <p:xfrm>
            <a:off x="3571920" y="2867040"/>
            <a:ext cx="785880" cy="830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65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571920" y="2867040"/>
                      <a:ext cx="785880" cy="83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66" name="组合 26"/>
          <p:cNvGrpSpPr/>
          <p:nvPr/>
        </p:nvGrpSpPr>
        <p:grpSpPr>
          <a:xfrm>
            <a:off x="4572000" y="2938320"/>
            <a:ext cx="3214800" cy="830520"/>
            <a:chOff x="4572000" y="2938320"/>
            <a:chExt cx="3214800" cy="830520"/>
          </a:xfrm>
        </p:grpSpPr>
        <p:sp>
          <p:nvSpPr>
            <p:cNvPr id="767" name="Rectangle 6"/>
            <p:cNvSpPr/>
            <p:nvPr/>
          </p:nvSpPr>
          <p:spPr>
            <a:xfrm>
              <a:off x="4572000" y="3059280"/>
              <a:ext cx="307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乙车运输时间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68" name="Object 13"/>
            <p:cNvGraphicFramePr/>
            <p:nvPr/>
          </p:nvGraphicFramePr>
          <p:xfrm>
            <a:off x="7000920" y="2938320"/>
            <a:ext cx="785880" cy="830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69" name="Object 1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000920" y="2938320"/>
                      <a:ext cx="785880" cy="830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770" name="Object 14"/>
          <p:cNvGraphicFramePr/>
          <p:nvPr/>
        </p:nvGraphicFramePr>
        <p:xfrm>
          <a:off x="2689200" y="3645000"/>
          <a:ext cx="2408400" cy="830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1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89200" y="3645000"/>
                    <a:ext cx="240840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2" name="Object 15"/>
          <p:cNvGraphicFramePr/>
          <p:nvPr/>
        </p:nvGraphicFramePr>
        <p:xfrm>
          <a:off x="2617920" y="4365720"/>
          <a:ext cx="2433600" cy="830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73" name="Object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17920" y="4365720"/>
                    <a:ext cx="243360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4" name="Object 16"/>
          <p:cNvGraphicFramePr/>
          <p:nvPr/>
        </p:nvGraphicFramePr>
        <p:xfrm>
          <a:off x="4118040" y="4840200"/>
          <a:ext cx="1596960" cy="830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75" name="Object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18040" y="4840200"/>
                    <a:ext cx="1596960" cy="8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6" name="Object 17"/>
          <p:cNvGraphicFramePr/>
          <p:nvPr/>
        </p:nvGraphicFramePr>
        <p:xfrm>
          <a:off x="4118040" y="5554800"/>
          <a:ext cx="658800" cy="374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77" name="Object 1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118040" y="5554800"/>
                    <a:ext cx="658800" cy="37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Text Box 4"/>
          <p:cNvSpPr/>
          <p:nvPr/>
        </p:nvSpPr>
        <p:spPr>
          <a:xfrm>
            <a:off x="571680" y="974880"/>
            <a:ext cx="8175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吨蔬菜要运往奥运村，单独运，甲车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时可以运完，乙车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时可以运完。两车一起运需要多少小时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6"/>
          <p:cNvSpPr/>
          <p:nvPr/>
        </p:nvSpPr>
        <p:spPr>
          <a:xfrm>
            <a:off x="1285920" y="2289240"/>
            <a:ext cx="728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算一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如果把运输总量改为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吨，需要多少小时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6"/>
          <p:cNvSpPr/>
          <p:nvPr/>
        </p:nvSpPr>
        <p:spPr>
          <a:xfrm>
            <a:off x="1285920" y="3144600"/>
            <a:ext cx="728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如果把运输总量改为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3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吨，需要多少小时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6"/>
          <p:cNvSpPr/>
          <p:nvPr/>
        </p:nvSpPr>
        <p:spPr>
          <a:xfrm>
            <a:off x="2571840" y="362088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为什么运完的时间没有变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2" name="组合 8"/>
          <p:cNvGrpSpPr/>
          <p:nvPr/>
        </p:nvGrpSpPr>
        <p:grpSpPr>
          <a:xfrm>
            <a:off x="1392120" y="4540320"/>
            <a:ext cx="6359760" cy="1111320"/>
            <a:chOff x="1392120" y="4540320"/>
            <a:chExt cx="6359760" cy="1111320"/>
          </a:xfrm>
        </p:grpSpPr>
        <p:sp>
          <p:nvSpPr>
            <p:cNvPr id="783" name="Rectangle 6"/>
            <p:cNvSpPr/>
            <p:nvPr/>
          </p:nvSpPr>
          <p:spPr>
            <a:xfrm>
              <a:off x="1392120" y="4540320"/>
              <a:ext cx="6359760" cy="733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甲、乙两车单独运输的时间没有变，相应的工作效率仍然是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84" name="Object 2"/>
            <p:cNvGraphicFramePr/>
            <p:nvPr/>
          </p:nvGraphicFramePr>
          <p:xfrm>
            <a:off x="4827600" y="4821840"/>
            <a:ext cx="887400" cy="829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5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27600" y="4821840"/>
                      <a:ext cx="887400" cy="82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Text Box 4"/>
          <p:cNvSpPr/>
          <p:nvPr/>
        </p:nvSpPr>
        <p:spPr>
          <a:xfrm>
            <a:off x="571680" y="974880"/>
            <a:ext cx="817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一批蔬菜要运往奥运村，单独运，甲车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时可以运完，乙车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时可以运完。两车一起运需要多少小时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6"/>
          <p:cNvSpPr/>
          <p:nvPr/>
        </p:nvSpPr>
        <p:spPr>
          <a:xfrm>
            <a:off x="1643040" y="2335320"/>
            <a:ext cx="62866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每小时运输量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×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运输时间＝运输总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6"/>
          <p:cNvSpPr/>
          <p:nvPr/>
        </p:nvSpPr>
        <p:spPr>
          <a:xfrm>
            <a:off x="6000840" y="2859120"/>
            <a:ext cx="16333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9" name="组合 5"/>
          <p:cNvGrpSpPr/>
          <p:nvPr/>
        </p:nvGrpSpPr>
        <p:grpSpPr>
          <a:xfrm>
            <a:off x="2428920" y="2813040"/>
            <a:ext cx="3643200" cy="830160"/>
            <a:chOff x="2428920" y="2813040"/>
            <a:chExt cx="3643200" cy="830160"/>
          </a:xfrm>
        </p:grpSpPr>
        <p:sp>
          <p:nvSpPr>
            <p:cNvPr id="790" name="Rectangle 6"/>
            <p:cNvSpPr/>
            <p:nvPr/>
          </p:nvSpPr>
          <p:spPr>
            <a:xfrm>
              <a:off x="2428920" y="2882520"/>
              <a:ext cx="36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甲车每小时运输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91" name="Object 14"/>
            <p:cNvGraphicFramePr/>
            <p:nvPr/>
          </p:nvGraphicFramePr>
          <p:xfrm>
            <a:off x="5213520" y="2813040"/>
            <a:ext cx="430200" cy="830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92" name="Object 1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13520" y="2813040"/>
                      <a:ext cx="430200" cy="83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93" name="组合 8"/>
          <p:cNvGrpSpPr/>
          <p:nvPr/>
        </p:nvGrpSpPr>
        <p:grpSpPr>
          <a:xfrm>
            <a:off x="2428920" y="3571920"/>
            <a:ext cx="3643200" cy="830160"/>
            <a:chOff x="2428920" y="3571920"/>
            <a:chExt cx="3643200" cy="830160"/>
          </a:xfrm>
        </p:grpSpPr>
        <p:sp>
          <p:nvSpPr>
            <p:cNvPr id="794" name="Rectangle 6"/>
            <p:cNvSpPr/>
            <p:nvPr/>
          </p:nvSpPr>
          <p:spPr>
            <a:xfrm>
              <a:off x="2428920" y="3641400"/>
              <a:ext cx="36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乙车每小时运输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95" name="Object 3"/>
            <p:cNvGraphicFramePr/>
            <p:nvPr/>
          </p:nvGraphicFramePr>
          <p:xfrm>
            <a:off x="5213520" y="3571920"/>
            <a:ext cx="430200" cy="83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96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213520" y="3571920"/>
                      <a:ext cx="430200" cy="83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97" name="Rectangle 6"/>
          <p:cNvSpPr/>
          <p:nvPr/>
        </p:nvSpPr>
        <p:spPr>
          <a:xfrm>
            <a:off x="2000160" y="4359240"/>
            <a:ext cx="692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解：设两车一起运需要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小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8" name="组合 12"/>
          <p:cNvGrpSpPr/>
          <p:nvPr/>
        </p:nvGrpSpPr>
        <p:grpSpPr>
          <a:xfrm>
            <a:off x="1500120" y="4741920"/>
            <a:ext cx="2928960" cy="830160"/>
            <a:chOff x="1500120" y="4741920"/>
            <a:chExt cx="2928960" cy="830160"/>
          </a:xfrm>
        </p:grpSpPr>
        <p:sp>
          <p:nvSpPr>
            <p:cNvPr id="799" name="Rectangle 6"/>
            <p:cNvSpPr/>
            <p:nvPr/>
          </p:nvSpPr>
          <p:spPr>
            <a:xfrm>
              <a:off x="1500120" y="4856040"/>
              <a:ext cx="292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甲车运输量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00" name="Object 4"/>
            <p:cNvGraphicFramePr/>
            <p:nvPr/>
          </p:nvGraphicFramePr>
          <p:xfrm>
            <a:off x="3654360" y="4741920"/>
            <a:ext cx="631800" cy="830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01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654360" y="4741920"/>
                      <a:ext cx="631800" cy="83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02" name="组合 15"/>
          <p:cNvGrpSpPr/>
          <p:nvPr/>
        </p:nvGrpSpPr>
        <p:grpSpPr>
          <a:xfrm>
            <a:off x="4714920" y="4741920"/>
            <a:ext cx="2928960" cy="830160"/>
            <a:chOff x="4714920" y="4741920"/>
            <a:chExt cx="2928960" cy="830160"/>
          </a:xfrm>
        </p:grpSpPr>
        <p:sp>
          <p:nvSpPr>
            <p:cNvPr id="803" name="Rectangle 6"/>
            <p:cNvSpPr/>
            <p:nvPr/>
          </p:nvSpPr>
          <p:spPr>
            <a:xfrm>
              <a:off x="4714920" y="4856040"/>
              <a:ext cx="292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乙车运输量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04" name="Object 5"/>
            <p:cNvGraphicFramePr/>
            <p:nvPr/>
          </p:nvGraphicFramePr>
          <p:xfrm>
            <a:off x="6882120" y="4741920"/>
            <a:ext cx="606240" cy="8301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05" name="Object 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882120" y="4741920"/>
                      <a:ext cx="606240" cy="83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06" name="Rectangle 6"/>
          <p:cNvSpPr/>
          <p:nvPr/>
        </p:nvSpPr>
        <p:spPr>
          <a:xfrm>
            <a:off x="1214280" y="5573520"/>
            <a:ext cx="69296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甲车运输量＋乙车运输量＝运输总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4"/>
          <p:cNvSpPr/>
          <p:nvPr/>
        </p:nvSpPr>
        <p:spPr>
          <a:xfrm>
            <a:off x="571680" y="974880"/>
            <a:ext cx="817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一批蔬菜要运往奥运村，单独运，甲车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时可以运完，乙车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时可以运完。两车一起运需要多少小时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6"/>
          <p:cNvSpPr/>
          <p:nvPr/>
        </p:nvSpPr>
        <p:spPr>
          <a:xfrm>
            <a:off x="2143080" y="2216160"/>
            <a:ext cx="692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解：设两车一起运需要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小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9" name="Object 6"/>
          <p:cNvGraphicFramePr/>
          <p:nvPr/>
        </p:nvGraphicFramePr>
        <p:xfrm>
          <a:off x="3828960" y="2693880"/>
          <a:ext cx="1743120" cy="83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8960" y="2693880"/>
                    <a:ext cx="1743120" cy="8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1" name="Object 7"/>
          <p:cNvGraphicFramePr/>
          <p:nvPr/>
        </p:nvGraphicFramePr>
        <p:xfrm>
          <a:off x="4764240" y="3524400"/>
          <a:ext cx="807840" cy="83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64240" y="3524400"/>
                    <a:ext cx="80784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3" name="Object 8"/>
          <p:cNvGraphicFramePr/>
          <p:nvPr/>
        </p:nvGraphicFramePr>
        <p:xfrm>
          <a:off x="4851360" y="4381560"/>
          <a:ext cx="934920" cy="374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14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51360" y="4381560"/>
                    <a:ext cx="934920" cy="3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5" name="Object 9"/>
          <p:cNvGraphicFramePr/>
          <p:nvPr/>
        </p:nvGraphicFramePr>
        <p:xfrm>
          <a:off x="4995720" y="4840200"/>
          <a:ext cx="657360" cy="374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16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95720" y="4840200"/>
                    <a:ext cx="657360" cy="3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7" name="Rectangle 6"/>
          <p:cNvSpPr/>
          <p:nvPr/>
        </p:nvSpPr>
        <p:spPr>
          <a:xfrm>
            <a:off x="2500200" y="5145120"/>
            <a:ext cx="542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两车一起运需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小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6"/>
          <p:cNvSpPr/>
          <p:nvPr/>
        </p:nvSpPr>
        <p:spPr>
          <a:xfrm>
            <a:off x="1928880" y="5692680"/>
            <a:ext cx="54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如何用算术方法解答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4"/>
          <p:cNvSpPr/>
          <p:nvPr/>
        </p:nvSpPr>
        <p:spPr>
          <a:xfrm>
            <a:off x="571680" y="974880"/>
            <a:ext cx="817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一批蔬菜要运往奥运村，单独运，甲车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时可以运完，乙车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时可以运完。两车一起运需要多少小时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6"/>
          <p:cNvSpPr/>
          <p:nvPr/>
        </p:nvSpPr>
        <p:spPr>
          <a:xfrm>
            <a:off x="1143000" y="2335320"/>
            <a:ext cx="728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甲、乙两车一起运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小时的运输量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1" name="Object 6"/>
          <p:cNvGraphicFramePr/>
          <p:nvPr/>
        </p:nvGraphicFramePr>
        <p:xfrm>
          <a:off x="3924360" y="2844720"/>
          <a:ext cx="1666800" cy="91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2844720"/>
                    <a:ext cx="166680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3" name="Object 7"/>
          <p:cNvGraphicFramePr/>
          <p:nvPr/>
        </p:nvGraphicFramePr>
        <p:xfrm>
          <a:off x="3643200" y="3789360"/>
          <a:ext cx="986040" cy="83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4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43200" y="3789360"/>
                    <a:ext cx="98604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5" name="Object 9"/>
          <p:cNvGraphicFramePr/>
          <p:nvPr/>
        </p:nvGraphicFramePr>
        <p:xfrm>
          <a:off x="3643200" y="4692600"/>
          <a:ext cx="1365480" cy="426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6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43200" y="4692600"/>
                    <a:ext cx="136548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7" name="Rectangle 6"/>
          <p:cNvSpPr/>
          <p:nvPr/>
        </p:nvSpPr>
        <p:spPr>
          <a:xfrm>
            <a:off x="2214720" y="5121360"/>
            <a:ext cx="54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两车一起运需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小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28"/>
          <p:cNvSpPr/>
          <p:nvPr/>
        </p:nvSpPr>
        <p:spPr>
          <a:xfrm>
            <a:off x="-71280" y="28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30"/>
          <p:cNvSpPr/>
          <p:nvPr/>
        </p:nvSpPr>
        <p:spPr>
          <a:xfrm>
            <a:off x="-71280" y="28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4"/>
          <p:cNvSpPr/>
          <p:nvPr/>
        </p:nvSpPr>
        <p:spPr>
          <a:xfrm>
            <a:off x="571680" y="992160"/>
            <a:ext cx="81435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在括号里填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一批蔬菜可以吃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天，平均每天吃   天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天吃   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每天完成一项工程的   ，完成这项工程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   ）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1" name="Object 23"/>
          <p:cNvGraphicFramePr/>
          <p:nvPr/>
        </p:nvGraphicFramePr>
        <p:xfrm>
          <a:off x="7211880" y="1643040"/>
          <a:ext cx="432000" cy="83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2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11880" y="1643040"/>
                    <a:ext cx="43200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3" name="Object 24"/>
          <p:cNvGraphicFramePr/>
          <p:nvPr/>
        </p:nvGraphicFramePr>
        <p:xfrm>
          <a:off x="1500120" y="2205000"/>
          <a:ext cx="432000" cy="83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4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00120" y="2205000"/>
                    <a:ext cx="43200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5" name="Object 25"/>
          <p:cNvGraphicFramePr/>
          <p:nvPr/>
        </p:nvGraphicFramePr>
        <p:xfrm>
          <a:off x="1160640" y="3786120"/>
          <a:ext cx="253800" cy="347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6" name="Object 2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60640" y="3786120"/>
                    <a:ext cx="25380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26"/>
          <p:cNvGraphicFramePr/>
          <p:nvPr/>
        </p:nvGraphicFramePr>
        <p:xfrm>
          <a:off x="7143840" y="1581120"/>
          <a:ext cx="507960" cy="990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38" name="Object 2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43840" y="1581120"/>
                    <a:ext cx="50796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9" name="Object 27"/>
          <p:cNvGraphicFramePr/>
          <p:nvPr/>
        </p:nvGraphicFramePr>
        <p:xfrm>
          <a:off x="1492200" y="2152800"/>
          <a:ext cx="507960" cy="990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40" name="Object 2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92200" y="2152800"/>
                    <a:ext cx="50796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1" name="Object 28"/>
          <p:cNvGraphicFramePr/>
          <p:nvPr/>
        </p:nvGraphicFramePr>
        <p:xfrm>
          <a:off x="4900680" y="2936880"/>
          <a:ext cx="279360" cy="830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42" name="Object 2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900680" y="2936880"/>
                    <a:ext cx="27936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28"/>
          <p:cNvSpPr/>
          <p:nvPr/>
        </p:nvSpPr>
        <p:spPr>
          <a:xfrm>
            <a:off x="-7128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30"/>
          <p:cNvSpPr/>
          <p:nvPr/>
        </p:nvSpPr>
        <p:spPr>
          <a:xfrm>
            <a:off x="-7128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4"/>
          <p:cNvSpPr/>
          <p:nvPr/>
        </p:nvSpPr>
        <p:spPr>
          <a:xfrm>
            <a:off x="642960" y="919080"/>
            <a:ext cx="785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甲乙两人砌一面墙，甲单独砌需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时完成，乙单独砌需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时可以完成。甲乙两人合砌几小时可以完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6"/>
          <p:cNvSpPr/>
          <p:nvPr/>
        </p:nvSpPr>
        <p:spPr>
          <a:xfrm>
            <a:off x="2143080" y="2216160"/>
            <a:ext cx="692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解：设两人合砌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小时可以完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7" name="Object 13"/>
          <p:cNvGraphicFramePr/>
          <p:nvPr/>
        </p:nvGraphicFramePr>
        <p:xfrm>
          <a:off x="3890880" y="2693880"/>
          <a:ext cx="1617840" cy="83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8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90880" y="2693880"/>
                    <a:ext cx="1617840" cy="8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9" name="Object 14"/>
          <p:cNvGraphicFramePr/>
          <p:nvPr/>
        </p:nvGraphicFramePr>
        <p:xfrm>
          <a:off x="4700520" y="3524400"/>
          <a:ext cx="808200" cy="83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0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00520" y="3524400"/>
                    <a:ext cx="80820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1" name="Object 15"/>
          <p:cNvGraphicFramePr/>
          <p:nvPr/>
        </p:nvGraphicFramePr>
        <p:xfrm>
          <a:off x="4789440" y="4381560"/>
          <a:ext cx="934920" cy="374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52" name="Object 1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89440" y="4381560"/>
                    <a:ext cx="934920" cy="3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3" name="Object 16"/>
          <p:cNvGraphicFramePr/>
          <p:nvPr/>
        </p:nvGraphicFramePr>
        <p:xfrm>
          <a:off x="4932360" y="4613400"/>
          <a:ext cx="885960" cy="830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4" name="Object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32360" y="4613400"/>
                    <a:ext cx="88596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55" name="组合 19"/>
          <p:cNvGrpSpPr/>
          <p:nvPr/>
        </p:nvGrpSpPr>
        <p:grpSpPr>
          <a:xfrm>
            <a:off x="2500200" y="5170320"/>
            <a:ext cx="6286680" cy="830520"/>
            <a:chOff x="2500200" y="5170320"/>
            <a:chExt cx="6286680" cy="830520"/>
          </a:xfrm>
        </p:grpSpPr>
        <p:sp>
          <p:nvSpPr>
            <p:cNvPr id="856" name="Rectangle 6"/>
            <p:cNvSpPr/>
            <p:nvPr/>
          </p:nvSpPr>
          <p:spPr>
            <a:xfrm>
              <a:off x="2500200" y="5335920"/>
              <a:ext cx="628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答：两人合砌  </a:t>
              </a:r>
              <a:r>
                <a:rPr b="0" i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   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小时可以完成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57" name="Object 17"/>
            <p:cNvGraphicFramePr/>
            <p:nvPr/>
          </p:nvGraphicFramePr>
          <p:xfrm>
            <a:off x="4805280" y="5170320"/>
            <a:ext cx="480960" cy="8305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858" name="Object 1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805280" y="5170320"/>
                      <a:ext cx="480960" cy="830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6T05:32:14Z</dcterms:created>
  <dc:creator/>
  <dc:description/>
  <cp:keywords/>
  <dc:language>en-US</dc:language>
  <cp:lastModifiedBy/>
  <dcterms:modified xsi:type="dcterms:W3CDTF">2017-12-20T14:35:33Z</dcterms:modified>
  <cp:revision>1</cp:revision>
  <dc:subject/>
  <dc:title/>
</cp:coreProperties>
</file>